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D87-970C-46AB-A4BF-728D2B65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F93-83A2-49AA-99CD-B44863D8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2FA-46AE-4F60-9B9E-E66602F6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898-F599-43AA-8D0E-64B1B4B0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03A-3755-41D9-AC72-651AC0CB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B5C-058B-4BA9-8E92-13A7E624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D143-7CC7-4BF1-82BE-8A56FDA9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5DD-C168-4AFF-9D09-1A729473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E15-34D7-4437-B3CD-D6FBF8A5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08B-BC8C-476D-BABB-0DB50EFA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30E-1F07-4DFA-B1BF-E6B726E6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D20-E95D-44DE-B6DF-37CDB29F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2768-02AE-46DD-AD29-4CA04F1DE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c/c3/37_Lyndon_Johnson_3x4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imdb.com/rg/mediaindex/thumbnail/media/rm1416206336/nm0000069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imdb.com/rg/mediaindex/thumbnail/media/rm1503631360/nm0000054" TargetMode="External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hyperlink" Target="http://z.about.com/d/womenshistory/1/0/z/I/jackie_kennedy.jpg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1.jpeg"/><Relationship Id="rId14" Type="http://schemas.openxmlformats.org/officeDocument/2006/relationships/image" Target="../media/image5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hyperlink" Target="http://www.time.com/time/2003/jfk/photoessay/5.html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time.com/time/2003/jfk/photoessay/2.html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time.com/time/2003/jfk/photoessay/5.html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time.com/time/2003/jfk/photoessay/2.html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hyperlink" Target="http://www.time.com/time/2003/jfk/photoessay/3.html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www.time.com/time/2003/jfk/photoessay/6.html" TargetMode="External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File:37 Lyndon Johnson 3x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Frank Sinatra, portrait for Kings Go Forth, 1958.&#10;Vintage silver gelatin, 7x13.5, signed. $900&#10;Â© 1978 Bill Avery&#10;MPTV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c. 1953&#10;Photo by Frank Powoln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Robert F. Kennedy - Photo"/>
          <p:cNvPicPr/>
          <p:nvPr/>
        </p:nvPicPr>
        <p:blipFill>
          <a:blip r:embed="rId9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A picture of First Lady Jacqueline Kennedy, wife of President John F. Kenned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Robert Frost"/>
          <p:cNvPicPr/>
          <p:nvPr/>
        </p:nvPicPr>
        <p:blipFill>
          <a:blip r:embed="rId12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President Kennedy, head and shoulders portrait photograph, looking up. Photograph distributed by the White House. "/>
          <p:cNvPicPr/>
          <p:nvPr/>
        </p:nvPicPr>
        <p:blipFill>
          <a:blip r:embed="rId13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Robert F. Kennedy - Photo"/>
          <p:cNvPicPr/>
          <p:nvPr/>
        </p:nvPicPr>
        <p:blipFill>
          <a:blip r:embed="rId14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President Kennedy, head and shoulders portrait photograph, looking up. Photograph distributed by the White House. "/>
          <p:cNvPicPr/>
          <p:nvPr/>
        </p:nvPicPr>
        <p:blipFill>
          <a:blip r:embed="rId15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President Kennedy, head and shoulders portrait photograph, looking up. Photograph distributed by the White House. "/>
          <p:cNvPicPr/>
          <p:nvPr/>
        </p:nvPicPr>
        <p:blipFill>
          <a:blip r:embed="rId17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Gentleman Prefer Blondes, Ocean’s Eleven, Guy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3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5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6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752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2590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the Missionaries of Charity in Calcutta, India, 1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9 – won Nobel peace Pr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0 – Awarded Bharat Ratna in In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28 – Joined the Sisters of Loreto as a missio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2 – Opened the Kalighat Home for the D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5 – Opened the Nirmala Shishu Bivhan for orphans and homeless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2 – Negotiated a  cease-fire between Israeli and Palestine armies to rescue 37 children from a devastated hos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1 – Opened Missionaries for Charity Brothers in Alb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3 – Suffered heart attack while visiting Pope John Paul II in R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 </cp:lastModifiedBy>
  <dcterms:modified xsi:type="dcterms:W3CDTF">2010-09-16T13:31:32Z</dcterms:modified>
  <cp:revision>16</cp:revision>
  <dc:subject/>
  <dc:title>Profile</dc:title>
</cp:coreProperties>
</file>